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8121-30B9-4EF5-9C3A-FEAEFAAC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A34D-0595-4E8E-A1E3-EC4E565D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3868-04A6-469B-929E-F5A9F3FB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3F45-4E8C-4ACA-A8BC-9026172C8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5808-A583-41D8-988F-0D4DAEEE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2B7-C2B6-443A-B3CC-EBDA4934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82DA-4624-4426-AC8C-F4132D133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62D0-CF51-41AD-A5C3-AC086DF7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9C8A-60BE-4CCA-892F-FD9C8A2A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90A-E222-4CF2-8434-E1ADBF5F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927F-85DA-4B1A-B8DC-0C88E2C8C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5BF7-1DD9-4F9A-A58C-3D2B40D8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15B3-0E01-4342-87E3-F3D5680F6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4423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1800" y="863640"/>
            <a:ext cx="82422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4. Dendrogr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lack DH, Dobson LK, du Toit JT, Derr J (2015) Genetic Analysis of the Henry Mountains Bison Herd. PLOS ONE 10(12): e0144239. https://doi.org/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